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674-FB4A-42BF-B4A7-F3DD975E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CC9-26D3-41AD-83B7-58150360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EEF-254E-45E7-A281-8D860CA9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C94-0E2D-47A9-B054-91B7F89A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8F7-742A-477B-9261-58F5545D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578-DCE2-413D-8C99-8E656572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B58-3F81-44BC-8135-0A882753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81A-4460-4AEF-882F-0BEB49F8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7FC-042C-4E73-93B8-F9598A23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6E3-9952-444D-B871-354C2B3E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784-4DC5-40F2-8A35-8F22512B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EA5-7219-4DD1-A1B6-DA3BAA1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CE6C-EA8E-4E77-A107-65C9FDECD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46240"/>
            <a:ext cx="8609040" cy="5711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2411280" cy="12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G Exploa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rospect: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uron, J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View: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500 Level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DDH: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X-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943520" cy="655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2916360" cy="12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850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spec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H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D0452D5-DBD045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570880" cy="565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2916360" cy="12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850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spec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H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D0452D5-DBD045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5019840" cy="662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2700360" cy="12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50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spec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H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D0468-DBD0468D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71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0" y="0"/>
            <a:ext cx="2700360" cy="12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50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spec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H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D0468-DBD0468D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0880" cy="565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771640" cy="12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250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spec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H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D0466-DBD0467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0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2627280" cy="12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350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spec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H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D0469-DBD04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2843280" cy="12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450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spec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H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D0465-DBD0465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44520"/>
            <a:ext cx="8493120" cy="561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2411280" cy="12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G Exploa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rospect: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uron, J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View: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500 Level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DDH: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X-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04:15:00Z</dcterms:created>
  <dc:creator>Simon Smith</dc:creator>
  <dc:description/>
  <dc:language>en-US</dc:language>
  <cp:lastModifiedBy>Simon Smith</cp:lastModifiedBy>
  <dcterms:modified xsi:type="dcterms:W3CDTF">2007-04-20T04:39:47Z</dcterms:modified>
  <cp:revision>2</cp:revision>
  <dc:subject/>
  <dc:title>Slide 1</dc:title>
</cp:coreProperties>
</file>