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32600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0B3-F194-4964-A292-86F812C8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C82-9CD2-4C17-A9FD-0F863002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09B-BD3F-4D0E-B6BA-B9C05819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24D-016B-46D3-A487-01E88861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A7F-4E41-4466-BB70-304BE38E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92C-4995-4814-9922-51DA7F2C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21B5-6B21-4AAE-BE05-FC112165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105-E1DD-4B2C-B13A-AD0275B8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091-9233-4043-A9C7-F6E7502A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321-3CBE-4279-9CF0-C7475780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1221-9E8D-4A27-9647-E8202CF2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8D7-2CF3-4FF7-BC1B-389E2737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8222-9F7F-4055-8F57-54A779040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08000" y="6213600"/>
            <a:ext cx="5653080" cy="63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89120" y="219240"/>
            <a:ext cx="7564320" cy="5910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5661000"/>
            <a:ext cx="28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Input data: viewing 06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16720" y="6273720"/>
            <a:ext cx="34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3333cc"/>
                </a:solidFill>
                <a:latin typeface="Arial"/>
              </a:rPr>
              <a:t>Woolwonga Leapfrog 5m resolution results (from GC and Expl 2.5m composi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92000" y="225360"/>
            <a:ext cx="7561440" cy="5907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6920" y="5661000"/>
            <a:ext cx="28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10m shrinkwra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6273720"/>
            <a:ext cx="34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3333cc"/>
                </a:solidFill>
                <a:latin typeface="Arial"/>
              </a:rPr>
              <a:t>Woolwonga Leapfrog 5m resolution results (from GC and Expl 2.5m composi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92000" y="225360"/>
            <a:ext cx="7561440" cy="5907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5661000"/>
            <a:ext cx="28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0.5g/t Au and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16720" y="6273720"/>
            <a:ext cx="34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3333cc"/>
                </a:solidFill>
                <a:latin typeface="Arial"/>
              </a:rPr>
              <a:t>Woolwonga Leapfrog 5m resolution results (from GC and Expl 2.5m composi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92000" y="225360"/>
            <a:ext cx="7561440" cy="5907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26920" y="5661000"/>
            <a:ext cx="28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0.5g/t Au and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16720" y="6273720"/>
            <a:ext cx="34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3333cc"/>
                </a:solidFill>
                <a:latin typeface="Arial"/>
              </a:rPr>
              <a:t>Woolwonga Leapfrog 5m resolution results (from GC and Expl 2.5m composi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895640" y="3078000"/>
            <a:ext cx="1331640" cy="1719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4066920" y="3681360"/>
            <a:ext cx="2160360" cy="1116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227640" y="3033360"/>
            <a:ext cx="468360" cy="1763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27640" y="4797360"/>
            <a:ext cx="19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00"/>
                </a:solidFill>
                <a:latin typeface="Arial"/>
              </a:rPr>
              <a:t>Axial plane and bedding intersection line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3311640" y="3823920"/>
            <a:ext cx="2916000" cy="973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92000" y="225360"/>
            <a:ext cx="7561440" cy="590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5661000"/>
            <a:ext cx="28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1.0g/t Au and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16720" y="6273720"/>
            <a:ext cx="34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3333cc"/>
                </a:solidFill>
                <a:latin typeface="Arial"/>
              </a:rPr>
              <a:t>Woolwonga Leapfrog 5m resolution results (from GC and Expl 2.5m composi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895640" y="3078000"/>
            <a:ext cx="1331640" cy="1719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4066920" y="3681360"/>
            <a:ext cx="2160360" cy="1116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227640" y="3212640"/>
            <a:ext cx="432000" cy="1584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27640" y="4797360"/>
            <a:ext cx="19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00"/>
                </a:solidFill>
                <a:latin typeface="Arial"/>
              </a:rPr>
              <a:t>Axial plane and bedding intersection line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92000" y="225360"/>
            <a:ext cx="7561440" cy="5907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6920" y="5661000"/>
            <a:ext cx="28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1.5g/t Au and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16720" y="6273720"/>
            <a:ext cx="34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3333cc"/>
                </a:solidFill>
                <a:latin typeface="Arial"/>
              </a:rPr>
              <a:t>Woolwonga Leapfrog 5m resolution results (from GC and Expl 2.5m composi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4895640" y="3078000"/>
            <a:ext cx="1331640" cy="1719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4066920" y="3681360"/>
            <a:ext cx="2160360" cy="1116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227640" y="3212640"/>
            <a:ext cx="432000" cy="1584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27640" y="4797360"/>
            <a:ext cx="19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00"/>
                </a:solidFill>
                <a:latin typeface="Arial"/>
              </a:rPr>
              <a:t>Axial plane and bedding intersection line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92000" y="225360"/>
            <a:ext cx="7561440" cy="5907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26920" y="5661000"/>
            <a:ext cx="28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3.0g/t Au and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16720" y="6273720"/>
            <a:ext cx="34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3333cc"/>
                </a:solidFill>
                <a:latin typeface="Arial"/>
              </a:rPr>
              <a:t>Woolwonga Leapfrog 5m resolution results (from GC and Expl 2.5m composi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4895640" y="3078000"/>
            <a:ext cx="1331640" cy="1719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455640" y="3284640"/>
            <a:ext cx="2771640" cy="1512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227640" y="3212640"/>
            <a:ext cx="432000" cy="1584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27640" y="4797360"/>
            <a:ext cx="19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00"/>
                </a:solidFill>
                <a:latin typeface="Arial"/>
              </a:rPr>
              <a:t>Axial plane and bedding intersection line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92000" y="225360"/>
            <a:ext cx="7561440" cy="5907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26920" y="5661000"/>
            <a:ext cx="28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Arial"/>
              </a:rPr>
              <a:t>4.0g/t Au and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16720" y="6273720"/>
            <a:ext cx="34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3333cc"/>
                </a:solidFill>
                <a:latin typeface="Arial"/>
              </a:rPr>
              <a:t>Woolwonga Leapfrog 5m resolution results (from GC and Expl 2.5m composi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4797360"/>
            <a:ext cx="19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00"/>
                </a:solidFill>
                <a:latin typeface="Arial"/>
              </a:rPr>
              <a:t>Axial plane and bedding intersection line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895640" y="3078000"/>
            <a:ext cx="1331640" cy="1719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455640" y="3284640"/>
            <a:ext cx="2771640" cy="1512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227640" y="3212640"/>
            <a:ext cx="432000" cy="1584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03:37:23Z</dcterms:created>
  <dc:creator>cowan</dc:creator>
  <dc:description/>
  <dc:language>en-US</dc:language>
  <cp:lastModifiedBy>jcowan</cp:lastModifiedBy>
  <cp:lastPrinted>2001-08-09T06:30:35Z</cp:lastPrinted>
  <dcterms:modified xsi:type="dcterms:W3CDTF">2003-04-11T00:53:26Z</dcterms:modified>
  <cp:revision>241</cp:revision>
  <dc:subject/>
  <dc:title>ARANZ and SRK collaboration</dc:title>
</cp:coreProperties>
</file>